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4CFD-0EA1-42CD-B072-0EA827AF5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63AD-C1B2-4B42-8737-FFFEE5A93A9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9443-BC3C-41BA-B979-80D6F1D52A6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4D6A-10E8-48E3-93F6-7B7DEEB7FF6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1361-B266-4107-A9E8-A222C3D30EB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5953-A22E-4A34-8713-43D895FE764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4A11-110C-4921-B9D6-8461DB9B70A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ABAA-8CE1-43E5-9397-FD290562304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E532-DA61-42B0-A9B5-CCE96F5AE6C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CCB3-6702-4BEC-95DA-E6381F6A0F7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1615-8F96-4EA4-AADD-CA537A52CC4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A2AE-145E-4B8F-8392-AF7D145DB14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17E-DC0B-4B6B-BFEA-07066DF5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D5AF-BB3E-4C85-8E97-2449D2EC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92F-36E5-4279-8C5C-92CFD6C5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326-D659-4B08-9237-0DC7F8A3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F3E7-767D-40F2-9C53-EDB4DA39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9C32-9C7D-4167-AF4E-493ADD95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6453-C738-4AB5-A039-7DCA484A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B7CF-867B-4F78-B4C2-A7AF757C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C0A7-D10B-4F1D-9663-009F6F6E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7553-9B3C-4700-B0EE-8965773D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5EBF-6261-41A7-9C93-CA404722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A558-3CE3-4535-85EF-7C25E175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7D54-459A-4969-A37D-DB1F5603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9C28-A72D-486C-8FB8-E7AAEAE6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10F9-BFEF-47BA-A1A5-7DC550C1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084F-5F89-4D34-AAC0-62ADFD90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BA7A-EC2A-4B2B-9699-E02E37C1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4DA-05BD-47C6-A8E1-A794CE19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A0D9-FED6-47FB-B4F0-5EFF69FC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9A64-727C-420A-89B4-365F8703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853-C480-4DBF-AEA0-A23F7C61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D10-DFD1-4183-900F-3EA16EA8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909-33F9-4EB6-8933-C6753427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48C-3AB7-4C2C-B689-BBB08C12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084E-BAC3-4D2B-A5D4-4A0538545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9A8C-C135-46B1-BC27-5C2B3DD03203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Literary Terms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You Should Know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You may want to take notes: write the definition, and 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one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 example for each term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Onomatopoeia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when a word sounds like what it represents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- splash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- drip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- smush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- spl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066680" y="3200400"/>
            <a:ext cx="7010640" cy="2514600"/>
          </a:xfrm>
          <a:prstGeom prst="rect">
            <a:avLst/>
          </a:prstGeom>
          <a:noFill/>
          <a:ln w="57240">
            <a:solidFill>
              <a:srgbClr val="cc601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Imager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the use of vivid sensory description to create mental pictures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The room was dark and musty and 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smelled like an old shoe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The blueberries were as big as your 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thumb and tasted like soot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We heard the horses hoofs clatter on 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the cobblestone street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066680" y="3352680"/>
            <a:ext cx="7239240" cy="2895840"/>
          </a:xfrm>
          <a:prstGeom prst="rect">
            <a:avLst/>
          </a:prstGeom>
          <a:noFill/>
          <a:ln w="57240">
            <a:solidFill>
              <a:srgbClr val="cc601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Figurative Langu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a tool a writer uses to help the reader visualize what is happening in a piece of writ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imil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a comparison between two unlike things using the words 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like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as 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or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 than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The sun is like a yellow ball of fire in 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the sky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Her feet were bigger than boat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They fought like cats and dog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066680" y="3352680"/>
            <a:ext cx="7162920" cy="2362320"/>
          </a:xfrm>
          <a:prstGeom prst="rect">
            <a:avLst/>
          </a:prstGeom>
          <a:noFill/>
          <a:ln w="57240">
            <a:solidFill>
              <a:srgbClr val="cc601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Metaphor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a comparison between two unlike things 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without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 using the words 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like, as, or than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; when one thing 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is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 the other thing</a:t>
            </a:r>
            <a:br>
              <a:rPr sz="3200"/>
            </a:b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Her home was a prison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His hair is straw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George is a sheep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914400" y="4191120"/>
            <a:ext cx="7162920" cy="1828800"/>
          </a:xfrm>
          <a:prstGeom prst="rect">
            <a:avLst/>
          </a:prstGeom>
          <a:noFill/>
          <a:ln w="57240">
            <a:solidFill>
              <a:srgbClr val="cc601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Hyperbol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the use of a big exaggeration to make a point or for effect.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3300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He has tons of money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- Her brain is the size of a pea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- I’ve told you a million times to 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capitalize people’s name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5800" y="3505320"/>
            <a:ext cx="7848720" cy="2514600"/>
          </a:xfrm>
          <a:prstGeom prst="rect">
            <a:avLst/>
          </a:prstGeom>
          <a:noFill/>
          <a:ln w="57240">
            <a:solidFill>
              <a:srgbClr val="cc601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Idiom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expressions that usually cannot be understood by defining the separate word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I’m so hungry I could eat a horse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That test was a piece of cake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Something fishy is going on around 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here!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371600" y="3505320"/>
            <a:ext cx="7086600" cy="2209680"/>
          </a:xfrm>
          <a:prstGeom prst="rect">
            <a:avLst/>
          </a:prstGeom>
          <a:noFill/>
          <a:ln w="57240">
            <a:solidFill>
              <a:srgbClr val="cc601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llus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a reference to something from literature, history, or culture to express a point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Christy didn't like to spend money, but she was no Scrooge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The cinnamon rolls were huge and golden brown, reminiscent of the twisted buns on the sides of Princess Leia's head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I am afraid of spiders, but I'm no cowardly lion!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685800" y="3124080"/>
            <a:ext cx="7848720" cy="3048120"/>
          </a:xfrm>
          <a:prstGeom prst="rect">
            <a:avLst/>
          </a:prstGeom>
          <a:noFill/>
          <a:ln w="57240">
            <a:solidFill>
              <a:srgbClr val="cc601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ersonifica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giving human qualities to non-human object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The rain kissed my cheeks as it fell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The car engine coughed and 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sputtered as it started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The microwave timer told me my 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pizza was ready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990720" y="3429000"/>
            <a:ext cx="7543800" cy="2590920"/>
          </a:xfrm>
          <a:prstGeom prst="rect">
            <a:avLst/>
          </a:prstGeom>
          <a:noFill/>
          <a:ln w="57240">
            <a:solidFill>
              <a:srgbClr val="cc601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llitera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petition of an initial consonant sound; there should be at least two repetitions in a row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330000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The wooly walrus wonders when we’ll 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walk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by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Sally sells seashells by the seashore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Peter Piper picks pickled pepper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371600" y="3581280"/>
            <a:ext cx="7162920" cy="2438640"/>
          </a:xfrm>
          <a:prstGeom prst="rect">
            <a:avLst/>
          </a:prstGeom>
          <a:noFill/>
          <a:ln w="57240">
            <a:solidFill>
              <a:srgbClr val="cc601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7:34:41Z</dcterms:created>
  <dc:creator>K. J. Hatzigeorgiou</dc:creator>
  <dc:description/>
  <dc:language>en-US</dc:language>
  <cp:lastModifiedBy>ITEC Department</cp:lastModifiedBy>
  <dcterms:modified xsi:type="dcterms:W3CDTF">2010-12-30T18:16:54Z</dcterms:modified>
  <cp:revision>13</cp:revision>
  <dc:subject/>
  <dc:title>Literary Terms  You Should Know</dc:title>
</cp:coreProperties>
</file>